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1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C2A2-B70D-44C7-AE61-C5766DA59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2904-1327-4028-A686-E62171A50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D01A-5FA0-452E-B969-3875CE822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D007-9967-4E92-8578-9599CEE2C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E84DC-DE81-4339-A28C-FDA2BCB280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0F5AB-7D2C-43E8-B753-97CFF83999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70AAA-6C3D-493A-9CFF-AC5BE3F2DD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294D7-6BDC-4D32-AAF1-9978D8B128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14F7-92AA-4458-AC0E-8A7F436D1F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3F752-B42C-47FA-850C-58D37901BB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2D611-74F8-4E85-80D5-4752D3025E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F67BD-AFC2-413A-B83E-B090CBBA2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A9AE0-92FF-444C-A09C-8BBB665C61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02DF5-958B-4854-A999-B82E1F79B7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C3A68-9C15-462E-B65F-F5614378C2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BB96B-A121-461B-B5D3-47DC43E6E4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9BA6B-BFF3-4789-8D4B-F966ED0544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CD98-8F4C-4E2B-BC2D-1D44CE451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69DB-4D07-41C4-827F-C14ED8AFE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44F3F-B8A1-4F91-8795-3E7A3171D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2204-6FDB-4FD9-AAE5-5423FFCB4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71B5-A814-459D-A457-6EA2AFE2E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2F5DB-6AD8-422B-8AFE-911F5EC9A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C867-6156-4D2E-B770-C019AFB6D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9BEF-ADF4-40D0-ACAB-0C72E789FF3C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FB69-E2CE-4921-A7BD-552BE173758C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ools.google.com/gapminder" TargetMode="External"/><Relationship Id="rId3" Type="http://schemas.openxmlformats.org/officeDocument/2006/relationships/hyperlink" Target="http://tools.google.com/gapminder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What is development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899640" y="4221000"/>
            <a:ext cx="755964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The simplest definition is</a:t>
            </a:r>
            <a:endParaRPr b="1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‘</a:t>
            </a: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the process of countries becoming richer’</a:t>
            </a:r>
            <a:endParaRPr b="1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5A22E-8B8A-41B0-A125-F2B027DE9F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On the other hand, LEDC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ndustry tends to be primary – do                                                 you remember what that is?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Or it is industry that needs a lot of                                                people and is much less mechanised –                                     why is that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Farming is often subsistence –                                                               what does that mean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re fewer service industries because people do not have much money to spend on leisure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Not all children go to school – many people have to pay towards the education. Girls in particular tend not have the chance of education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Not everyone has enough to eat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1.1 million ( 1/6 of the world) are without access to clean water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Healthcare where available is often basic as there are too few doctors and hospital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6084720" y="765000"/>
            <a:ext cx="2735280" cy="225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C573-AC19-4829-B032-EAF96E0495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But where do NICs fit in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3213000"/>
            <a:ext cx="42447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For the others, we talked about: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ndustrie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Farmi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rvice industrie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7960" y="3141720"/>
            <a:ext cx="4244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Educatio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Foo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ate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Healthcar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5724360" y="765000"/>
            <a:ext cx="2735280" cy="2256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0"/>
          <a:stretch/>
        </p:blipFill>
        <p:spPr>
          <a:xfrm>
            <a:off x="395280" y="765000"/>
            <a:ext cx="2752560" cy="2276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1"/>
          <a:stretch/>
        </p:blipFill>
        <p:spPr>
          <a:xfrm>
            <a:off x="3059280" y="765000"/>
            <a:ext cx="2734920" cy="2273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1833-2914-4106-82A2-778EE4B2DD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Facts about World developmen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920" y="69192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1/5 of the world are MEDCs but they own 4/5 of the wealth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The richest 3 people own more than the poorest 600 millio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100 million people are homeles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900 million have no educatio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880 million do not have enough to ea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Only 1/3 of the world can rea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1% go to university and 1% have a compute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The cost of providing basic healthcare and food for everyone who does not have it would be less that Europe and USA spend on pet food each year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5589000"/>
            <a:ext cx="2678040" cy="10155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What is the population of the whole world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9082-BFED-4C0F-AC86-271AEC7C69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Measuring developmen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So how do you measure economic development, standard of living and quality of life?</a:t>
            </a:r>
            <a:endParaRPr b="1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96714-2941-4C2A-AFD0-50BC66F06F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One measure of the wealth of a country is …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…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GDP which is usually given in dollars ($)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GDP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stands for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ross (All the money earned)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omestic (Just the one country)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roduct (added together)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arge countries will have bigger incomes than smaller countries who were just as wealthy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o the population size need to come into it too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f you divide the income by the population, then this gives a figure of dollars per hea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is called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GDP per capita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2A72-D880-409B-89B6-05543E2B2B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492360" y="4437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se are 2008 figure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280360" cy="38131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79280" y="4221000"/>
            <a:ext cx="3384720" cy="221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4BE2-E973-4D61-86FB-AE90846F73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ake a look here – fairly obvious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4248000" cy="2801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427640" y="3213000"/>
            <a:ext cx="4389480" cy="32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5A12-3454-4754-A1B8-D62DD558F7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ake a look here – fairly obvious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4248000" cy="2801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55640" y="4005360"/>
            <a:ext cx="2808360" cy="119124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utside Kabul in Afghanistan $1000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427640" y="3213000"/>
            <a:ext cx="4389480" cy="3284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148360" y="1434960"/>
            <a:ext cx="3384360" cy="15570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arkersburg in West Virgini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mall town Americ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$45,800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AD5E-1A31-4CC2-8CDA-9582684E15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But take a look at thes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4248360" cy="3189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4176720" cy="313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D740-841C-42F8-B0EF-F5DC9D5B56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But take a look at thes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4248360" cy="3189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84360" y="4292640"/>
            <a:ext cx="2808000" cy="10159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kyo, Japa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$33,500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4176720" cy="31366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292720" y="1989000"/>
            <a:ext cx="3095640" cy="10159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angkok Thailan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$8,000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74E0-D296-45E4-B3B2-162E2099B7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‘</a:t>
            </a: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process by which countries become richer’.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ll countries are trying to increase their wealth.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s people earn more, they can afford to buy more ‘things’ and so we say their ‘standard of living’ improves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Not all countries are developing at the same rate, and the gap between the rich and poor is growing.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EF7A-DAD5-4BE7-BC58-50EC35526F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And these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01800" y="717480"/>
            <a:ext cx="3265560" cy="4367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211640" y="3068640"/>
            <a:ext cx="4395960" cy="3281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55640" y="5516640"/>
            <a:ext cx="2808360" cy="10159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Wezhou, Chin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$5,400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16360" y="1773360"/>
            <a:ext cx="3816360" cy="10159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heffield Englan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$35,000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75E1-E987-4389-82B5-3FA1137709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But there are lots of other measure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se are called </a:t>
            </a: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development indicators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, for instance: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ncome – this is only helpful if you know how much things cos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Poverty – the % living on $1 a day or less – this is about 60p in the UK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5FFC-B275-49D1-9A48-37C5E015D8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is shows how much money people earned in $ a day in 2000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2720" y="1341360"/>
            <a:ext cx="7056360" cy="5200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2492280"/>
            <a:ext cx="2995560" cy="256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37CA-8547-4057-B4C9-A435F0FE6D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Some more development indicator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Life expectancy – how long a person can expect to live in a particular country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nfant mortality – the number of babies who die before 1 year per 1000 peopl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People per doctor –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alorific intake – the amount of food in calories per day, The World Health Organisation (WHO) says men need about 2500 and women need 2000 calories a day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65A7-C425-48B6-81E0-0FB9D38B47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Population indicator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3889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Population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Population density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Population growth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ertility rat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irth rat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Death rat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140360" y="1052280"/>
            <a:ext cx="4752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All these can tell you something about development – birth rate and death rate are an indication of the quality of health car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A growing population are often cited as a cause for underdevelopment – but it is really more of a symptom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3521-39EF-43C5-953C-8A65D57D07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In conclusion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GDP gives a general idea of the level of developmen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ut other indicators tell you more about the quality of life of the peopl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However, without money, indicators about health, education and food and water supply cannot improv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 how can we can we a get a measure of how good or how bad things are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7607-3CC5-4007-8533-D5EF65AC53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What are the problems with GDP per capita as a measure of development?</a:t>
            </a:r>
            <a:endParaRPr b="1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21010-04C7-4BFB-B05A-EC164200A7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you se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me parts of a country will reflect its GDP but others will not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re will be countries with a low GDP where there will be large modern buildings and MacDonald'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d there will be parts of countries with a high GDP that are underdeveloped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C592-29AC-46DD-BFE4-5DC19824FCA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So development is not just about how much money a country make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t was generally thought that as a country got richer, the standard of living of the people would increase – but as we can see, parts of every country are very modern, but not all of them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 we need to think about ‘quality of life’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t is only when we look at this, that we can begin to see how developed a country is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ecause then we know how well the individuals who live there are fairing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4C50-FC73-4439-B269-4DAA395CB1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Homework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5545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Go to </a:t>
            </a:r>
            <a:r>
              <a:rPr b="0" lang="en-GB" sz="2000" spc="-1" strike="noStrike" u="sng">
                <a:solidFill>
                  <a:srgbClr val="cc99ff"/>
                </a:solidFill>
                <a:uFillTx/>
                <a:latin typeface="Comic Sans MS"/>
                <a:hlinkClick r:id="rId2"/>
              </a:rPr>
              <a:t>http://</a:t>
            </a:r>
            <a:r>
              <a:rPr b="0" lang="en-GB" sz="2000" spc="-1" strike="noStrike" u="sng">
                <a:solidFill>
                  <a:srgbClr val="cc99ff"/>
                </a:solidFill>
                <a:uFillTx/>
                <a:latin typeface="Comic Sans MS"/>
                <a:hlinkClick r:id="rId3"/>
              </a:rPr>
              <a:t>tools.google.com/gapminder</a:t>
            </a: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(see a cheat sheet on the next page)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se are graphs that you can plot against each other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 bottom one Income per person (another name for GNP per capita) and now make the side axes = life expectancy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Also change the colour scheme: Top right click on Geographic regions </a:t>
            </a:r>
            <a:r>
              <a:rPr b="0" lang="en-GB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 categorization </a:t>
            </a:r>
            <a:r>
              <a:rPr b="0" lang="en-GB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 income group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You will see these groups (High – OECD, high – not OEDC, Upper Middle, Lower Middle and low income)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5796000" y="907920"/>
            <a:ext cx="3168720" cy="324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5CD7-2F21-4F16-A5A3-3BDD44AE660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 development involves more than just the wealth of a country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You need to take into account: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at standard of living and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quality of life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of the people who live ther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270B-3EDA-425B-9841-2DAFB8E547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Homework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for anomalies – Odd ones out – any dark blue ones with a greater life expectancy that you thought?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[Hold your mouse over the dark blue box in the key – all the dark blue ones will flash – so it is easier to see the OOO (out ones out)]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Hover over that country to see which it is, what its Income per person is and its life expectancy and note it dow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y might that be? What must these countries being doing that gives them a higher than expected life expectancy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other colours? Hold your mouse over them in the key and what do you notic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E2DF0-3DC1-4F2B-B291-9168F46FD1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So question 1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ncome per person v Life expectancy: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is the general pattern? Answer: As the Income per person increases, the life expectancy goes (up or down). This is because as the amount of money a country has goes up, then ….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Anomalies (OOO): (do at least 2 anomalies for each question – one higher and one lower)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ountry:  Income per person =  Life expectancy = This is (higher or lower) than expected. This could be because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Question 2:Income person v infant mortality rate per 1000 birth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0A12A-4341-43AE-8A46-567B9916C1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standard of life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is the material well-being of a person: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value of their possessions,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type of home they live in and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ether they own such things as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 TV,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 washing machine,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 car,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 telephone or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 computer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E80A-78E2-42F6-9879-F0673D49C5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quality of life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is the general well-being of a person. It includes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standard of life but also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access to education and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health care,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availability of  the utilities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.e. electricity,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ater,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rubbish collection,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ut also political and religious freedom,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ocial opportunities,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environmental quality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2C2D-F2D4-47E1-9183-27DFEBC6D5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691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Development is the improvements in standard of living and quality of life that follow on from a country becoming richer</a:t>
            </a:r>
            <a:endParaRPr b="1" lang="en-US" sz="44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476360" y="620640"/>
            <a:ext cx="614664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Comic Sans MS"/>
              </a:rPr>
              <a:t>In conclusion</a:t>
            </a:r>
            <a:endParaRPr b="1" lang="en-US" sz="4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75AE8-0EDA-4AE2-B151-826DBFF54F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In 1980 the term North-South divide was coined</a:t>
            </a:r>
            <a:endParaRPr b="0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3716280"/>
            <a:ext cx="85690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But as we know it is not as simple as that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There are many countries, like NICs, who neither very rich nor very poor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340000" y="1149480"/>
            <a:ext cx="4392720" cy="220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69C52-29B8-45B6-877A-5F81D16C36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Geographers love classifying things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 in order to classify the level of development they have concentrated on the level of economic (money) developmen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 there are 3 basic groups that you have come across before: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MEDC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NIC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EDC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Do you remember what these stand for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380B9-DA7E-4E10-BAB1-47E4E73151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What are MEDCs like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y tend to have well developed                                  industries, often high-tech – why is                                             that? What are they saving on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Farming is for profit and uses                                         machines and chemical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MEDCs have many service industries                                        because people have spare money for luxurie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Children have free education and almost everyone can read and write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People have plenty to eat and in fact many are over weight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Clean water comes directly into their home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Healthcare is easily available and is of high quality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9" name="uk" descr=""/>
          <p:cNvPicPr/>
          <p:nvPr/>
        </p:nvPicPr>
        <p:blipFill>
          <a:blip r:embed="rId8"/>
          <a:stretch/>
        </p:blipFill>
        <p:spPr>
          <a:xfrm>
            <a:off x="6084720" y="765000"/>
            <a:ext cx="2808360" cy="224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420F-7104-4495-BF06-DD5746B51C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1:19:25Z</dcterms:created>
  <dc:creator>Lindy</dc:creator>
  <dc:description/>
  <dc:language>en-US</dc:language>
  <cp:lastModifiedBy>Lindy</cp:lastModifiedBy>
  <dcterms:modified xsi:type="dcterms:W3CDTF">2008-11-02T14:16:19Z</dcterms:modified>
  <cp:revision>11</cp:revision>
  <dc:subject/>
  <dc:title>What is development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